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163-48B8-47AF-AEED-38FF358F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A31-2734-4203-9EEF-B7AD633D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980-DDE3-4690-A753-4887BFAC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C0A-4D07-4414-BA4F-C8ECF280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48BE-B5F0-467F-A432-D90553BC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F75-648A-4A71-BAA1-B77B7F9C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8ED-0E9E-48AD-8F1F-816708F1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2A5F-6276-493F-8C69-717ACA4D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80F-5673-4F50-923D-7DFA755B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241-BE6C-467F-AC61-5421B598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3D8-3048-4C5F-87D1-288123AA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2DD-787B-4052-BA9A-DDF18E88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DD5D-0E30-4607-8268-C342F69C80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ibrary.thinkquest.org/4272/images/Louie.gif&amp;imgrefurl=http://library.thinkquest.org/4272/&amp;h=192&amp;w=192&amp;sz=12&amp;hl=en&amp;start=1&amp;tbnid=xpK4h43H5pEWQM:&amp;tbnh=103&amp;tbnw=103&amp;prev=/images%3Fq%3Danimated%2Bcat%2Band%2Bmouse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westoxoncats.org.uk/assets/images/mouse_hole_cat_claw_sm_wht.gif&amp;imgrefurl=http://www.westoxoncats.org.uk/html/how_to_help.php&amp;h=56&amp;w=81&amp;sz=11&amp;hl=en&amp;start=57&amp;tbnid=zNWR_nZA-NvQkM:&amp;tbnh=51&amp;tbnw=74&amp;prev=/images%3Fq%3Danimated%2Bcat%2Band%2Bmouse%26start%3D40%26ndsp%3D20%26svnum%3D10%26hl%3Den%26lr%3D%26sa%3D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AT N` MOUS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4705200"/>
            <a:ext cx="31240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610480" y="1828800"/>
            <a:ext cx="533520" cy="3429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28800"/>
            <a:ext cx="609480" cy="3200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267080"/>
            <a:ext cx="1600200" cy="221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b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280"/>
            <a:ext cx="1676520" cy="1600200"/>
          </a:xfrm>
          <a:prstGeom prst="plus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62428E-006 C -0.00035 -4.62428E-006 -0.04427 -0.00161 -0.06024 0.0044 C -0.08733 0.01457 -0.11476 0.02937 -0.14115 0.04232 C -0.1566 0.04995 -0.17292 0.05411 -0.18889 0.05919 C -0.19462 0.06104 -0.20052 0.0622 -0.20625 0.06359 C -0.20937 0.06428 -0.2158 0.06567 -0.2158 0.06567 C -0.27691 0.06498 -0.33767 0.06498 -0.39844 0.06359 C -0.40712 0.06336 -0.41267 0.06104 -0.42066 0.05919 C -0.42691 0.05781 -0.43958 0.05503 -0.43958 0.05503 C -0.4493 0.04879 -0.4592 0.04671 -0.46979 0.0444 C -0.48437 0.03677 -0.49948 0.02983 -0.51424 0.02336 C -0.51823 0.02151 -0.52135 0.01711 -0.52535 0.0148 C -0.53333 0.01018 -0.54236 0.01018 -0.55069 0.00648 C -0.55868 -0.00069 -0.56684 -0.0037 -0.57621 -0.00624 C -0.58767 -0.01225 -0.5993 -0.01433 -0.61111 -0.01896 C -0.62656 -0.02497 -0.64149 -0.03283 -0.65712 -0.03792 C -0.65955 -0.04115 -0.66302 -0.043 -0.6651 -0.04647 C -0.66736 -0.05017 -0.66788 -0.05526 -0.66979 -0.05919 C -0.6724 -0.07283 -0.67448 -0.08601 -0.67778 -0.09919 C -0.67865 -0.10705 -0.6776 -0.11583 -0.6809 -0.12254 C -0.68299 -0.1267 -0.69253 -0.13479 -0.68889 -0.13318 C -0.67083 -0.12531 -0.65555 -0.1089 -0.63802 -0.09919 C -0.62205 -0.0904 -0.60451 -0.08624 -0.58889 -0.07607 C -0.57378 -0.06612 -0.55816 -0.0578 -0.54288 -0.04855 C -0.5342 -0.04323 -0.52604 -0.03861 -0.51736 -0.03375 C -0.51337 -0.03144 -0.51024 -0.02728 -0.50625 -0.0252 C -0.50382 -0.02404 -0.50104 -0.02404 -0.49844 -0.02312 C -0.48003 -0.01595 -0.46198 -0.00763 -0.44288 -0.00416 C -0.41649 0.00763 -0.43021 0.00208 -0.40156 0.01272 C -0.37778 0.02151 -0.34965 0.01943 -0.32552 0.02336 C -0.29323 0.02266 -0.26094 0.02313 -0.22847 0.02128 C -0.2224 0.02081 -0.21962 0.01596 -0.21424 0.0148 C -0.17778 0.00694 -0.1434 -0.01202 -0.10625 -0.01687 C -0.09687 -0.02011 -0.08715 -0.02196 -0.07778 -0.0252 C -0.0717 -0.03075 -0.06441 -0.03144 -0.05868 -0.03792 C -0.05312 -0.04416 -0.05191 -0.05156 -0.04601 -0.05711 C -0.04427 -0.06612 -0.04167 -0.06844 -0.03802 -0.07607 C -0.03993 -0.08878 -0.04253 -0.09988 -0.05226 -0.10566 C -0.05538 -0.10751 -0.05868 -0.10844 -0.0618 -0.10982 C -0.06337 -0.11052 -0.06667 -0.1119 -0.06667 -0.1119 C -0.07639 -0.10867 -0.07309 -0.10381 -0.0809 -0.09919 C -0.0993 -0.08809 -0.11493 -0.09202 -0.13646 -0.09086 C -0.14375 -0.08601 -0.14045 -0.0867 -0.14601 -0.0867 E">
                                      <p:cBhvr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268 0.25942 C 0.53282 0.27746 0.54375 0.25503 0.55868 0.24463 C 0.56684 0.22913 0.55695 0.2185 0.54601 0.21503 C 0.52379 0.20023 0.49879 0.20347 0.47466 0.20023 C 0.47084 0.19977 0.45816 0.197 0.454 0.19607 C 0.44861 0.19468 0.43802 0.19191 0.43802 0.19191 C 0.43125 0.18705 0.42448 0.18544 0.41754 0.18127 C 0.40938 0.17619 0.40209 0.17018 0.39358 0.16648 C 0.37761 0.15237 0.40243 0.17387 0.38247 0.15792 C 0.37917 0.15538 0.37309 0.1496 0.37309 0.1496 C 0.36893 0.1415 0.36337 0.13596 0.35868 0.12833 C 0.35278 0.11861 0.34896 0.10405 0.34601 0.09249 C 0.34775 0.06289 0.34948 0.04231 0.36823 0.02474 C 0.37431 0.01249 0.38559 0.00578 0.39532 -0.00046 C 0.40157 -0.00948 0.39462 -0.00115 0.40643 -0.00693 C 0.40816 -0.00786 0.40938 -0.00994 0.41111 -0.0111 C 0.41372 -0.01271 0.41632 -0.0141 0.4191 -0.01526 C 0.42379 -0.01711 0.42865 -0.01803 0.43334 -0.01965 C 0.4717 -0.01526 0.44358 -0.02058 0.45868 -0.01526 C 0.46285 -0.01364 0.47136 -0.0111 0.47136 -0.0111 C 0.48594 0.00139 0.50417 0.00694 0.52066 0.01434 C 0.52535 0.01642 0.53004 0.01873 0.5349 0.02058 C 0.53907 0.0222 0.54757 0.02474 0.54757 0.02474 C 0.57882 0.02405 0.61007 0.02405 0.64132 0.02266 C 0.65122 0.0222 0.66111 0.01318 0.6698 0.00786 C 0.68507 -0.00139 0.69775 -0.01295 0.71111 -0.02589 C 0.7132 -0.03006 0.71511 -0.03468 0.71754 -0.03861 C 0.71893 -0.04092 0.72084 -0.04254 0.72223 -0.04485 C 0.72466 -0.04878 0.72657 -0.05341 0.72865 -0.05757 C 0.72969 -0.05965 0.73177 -0.06404 0.73177 -0.06404 C 0.73368 -0.07445 0.73768 -0.083 0.73976 -0.09364 C 0.73837 -0.11191 0.74028 -0.11815 0.73177 -0.12948 C 0.7283 -0.14335 0.73316 -0.12763 0.72379 -0.14219 C 0.72223 -0.14451 0.72223 -0.14821 0.72066 -0.15052 C 0.71945 -0.1526 0.71719 -0.15306 0.7158 -0.15491 C 0.71077 -0.16092 0.70643 -0.16763 0.70157 -0.17387 C 0.69983 -0.17595 0.69723 -0.17641 0.69532 -0.17803 C 0.6816 -0.1889 0.66823 -0.20139 0.65243 -0.20555 C 0.62587 -0.22266 0.59393 -0.22289 0.56511 -0.22682 C 0.55434 -0.22636 0.49618 -0.22613 0.47136 -0.22243 C 0.45903 -0.22058 0.4474 -0.21225 0.4349 -0.20971 C 0.42049 -0.20324 0.44184 -0.21271 0.42379 -0.20555 C 0.42049 -0.20439 0.41424 -0.20139 0.41424 -0.20139 C 0.40625 -0.19445 0.40226 -0.18404 0.39532 -0.17595 C 0.39271 -0.17295 0.38993 -0.17063 0.38733 -0.16763 C 0.3842 -0.16393 0.38247 -0.15861 0.37934 -0.15491 C 0.37761 -0.15283 0.375 -0.15237 0.37309 -0.15052 C 0.36927 -0.14659 0.36563 -0.14219 0.36198 -0.13803 C 0.35591 -0.1311 0.35278 -0.12254 0.34601 -0.11676 C 0.34202 -0.10959 0.33681 -0.09942 0.33177 -0.09364 C 0.32986 -0.09156 0.32726 -0.0911 0.32535 -0.08925 C 0.32153 -0.08532 0.31789 -0.08069 0.31424 -0.07653 C 0.30816 -0.06959 0.3066 -0.06127 0.3 -0.05549 C 0.29514 -0.04578 0.29219 -0.03884 0.28577 -0.03006 C 0.28143 -0.01665 0.27587 -0.00439 0.2698 0.00786 C 0.26598 0.01549 0.26598 0.02544 0.26198 0.0333 C 0.26025 0.03653 0.2573 0.03861 0.25556 0.04185 C 0.25018 0.05203 0.24723 0.06104 0.23802 0.06497 C 0.23299 0.0696 0.22795 0.07098 0.22223 0.07353 C 0.18611 0.07052 0.20677 0.07353 0.18733 0.06497 C 0.18681 0.06289 0.18664 0.06058 0.18577 0.05873 C 0.1849 0.05688 0.18316 0.05619 0.18247 0.05434 C 0.18039 0.04833 0.18004 0.04139 0.17778 0.03538 C 0.17674 0.0326 0.1757 0.02983 0.17466 0.02705 C 0.17414 0.02359 0.17379 0.01989 0.17309 0.01642 C 0.17223 0.01203 0.17049 0.00809 0.1698 0.0037 C 0.16563 -0.01965 0.16545 -0.04439 0.16355 -0.06821 C 0.16511 -0.1126 0.16233 -0.10034 0.17136 -0.12532 C 0.17431 -0.14751 0.179 -0.16508 0.19358 -0.17803 C 0.20417 -0.17734 0.21511 -0.17919 0.22535 -0.17595 C 0.23438 -0.17318 0.23403 -0.15699 0.24445 -0.15699 E"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ou           </a:t>
            </a: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in       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5181480"/>
            <a:ext cx="4343400" cy="1295640"/>
          </a:xfrm>
          <a:prstGeom prst="bevel">
            <a:avLst>
              <a:gd name="adj" fmla="val 12500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You           </a:t>
            </a: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lose       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Play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9:09:01Z</dcterms:created>
  <dc:creator>CGB</dc:creator>
  <dc:description/>
  <dc:language>en-US</dc:language>
  <cp:lastModifiedBy>CGB</cp:lastModifiedBy>
  <dcterms:modified xsi:type="dcterms:W3CDTF">2006-12-08T19:09:38Z</dcterms:modified>
  <cp:revision>2</cp:revision>
  <dc:subject/>
  <dc:title>CAT N` MOUSE</dc:title>
</cp:coreProperties>
</file>